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5.png" ContentType="image/png"/>
  <Override PartName="/ppt/media/image19.jpeg" ContentType="image/jpeg"/>
  <Override PartName="/ppt/media/image22.jpeg" ContentType="image/jpeg"/>
  <Override PartName="/ppt/media/image39.png" ContentType="image/png"/>
  <Override PartName="/ppt/media/image20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0.jpeg" ContentType="image/jpeg"/>
  <Override PartName="/ppt/media/image8.jpeg" ContentType="image/jpeg"/>
  <Override PartName="/ppt/media/image38.png" ContentType="image/png"/>
  <Override PartName="/ppt/media/image9.jpeg" ContentType="image/jpeg"/>
  <Override PartName="/ppt/media/image28.png" ContentType="image/png"/>
  <Override PartName="/ppt/media/image7.jpeg" ContentType="image/jpeg"/>
  <Override PartName="/ppt/media/image32.png" ContentType="image/png"/>
  <Override PartName="/ppt/media/image33.png" ContentType="image/png"/>
  <Override PartName="/ppt/media/image14.jpeg" ContentType="image/jpeg"/>
  <Override PartName="/ppt/media/image35.png" ContentType="image/png"/>
  <Override PartName="/ppt/media/image5.jpeg" ContentType="image/jpeg"/>
  <Override PartName="/ppt/media/image36.png" ContentType="image/png"/>
  <Override PartName="/ppt/media/image18.png" ContentType="image/png"/>
  <Override PartName="/ppt/media/image6.jpeg" ContentType="image/jpeg"/>
  <Override PartName="/ppt/media/image37.png" ContentType="image/png"/>
  <Override PartName="/ppt/media/image40.jpeg" ContentType="image/jpe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2.jpeg" ContentType="image/jpeg"/>
  <Override PartName="/ppt/media/image23.jpeg" ContentType="image/jpeg"/>
  <Override PartName="/ppt/media/image30.png" ContentType="image/png"/>
  <Override PartName="/ppt/media/image3.jpeg" ContentType="image/jpe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</p:sldIdLst>
  <p:sldSz cx="9525000" cy="7621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6BB4-5EA3-4614-B537-EAA3478D8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3877-CC4A-4A23-A044-8FE88E733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89C7-D1E2-45CB-ABB5-19029AA73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DF56-DE67-4FA9-89B2-5A96C63B6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C47D9-22D0-49FB-A968-1CDDB5D59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7FFA7-2C11-43F1-B7C2-7C35BE251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C381C-C131-4D69-943D-F88FE5C16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92723-1DCD-4A38-91F0-A7DC477AD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5E156-C6B7-4023-8E71-CB1A5655D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10EED-147D-4361-83EA-2C6689B03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2E41A-27A1-4BE7-A3F1-D49A7BCF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FBCD-5653-4814-BA6C-B9314EF58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C034A-F9A8-4D3D-801B-8C6CA619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32C4C-DE06-4C7F-94C1-591ADBE3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6703D-9664-4F61-8338-E77618981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2E5EF-716F-41A2-8EFE-1F26CA395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E9EF2-6557-43B4-A041-9E2974D8F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BD8C6-2734-4C4A-B0FE-415596953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4DF1F-11E0-420D-BD1E-31FFDA25D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4AC54-EB5F-4285-8ADD-1267A316B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C7CAF-5C9C-4FA7-ADAD-271D18A0B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096D9-8516-467A-8A28-3394435EE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9699-2072-4FCD-A134-A0F9BE1CC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9F76E-B05A-4559-A9F8-25EB6BE59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11089-D416-4D9E-B070-2F0B3ADD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BBAB4-D516-4D9B-A0CF-C459ED15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40602-1AC2-4267-914F-A25259F5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A49A9-71AD-404A-8FF6-C13508EF4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75549-761B-4F2E-8BDB-F87F8A991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06352-DF38-4887-A5E3-594500EE5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87203-5E08-4D8C-A864-A957B8D0B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0392A-DB59-40BE-A2DD-F91235F28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592A3-CE54-4961-9EF4-3DEE8256E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3991-AD99-4564-B5C3-398221009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488D4-9D0C-4216-9114-B5FC378CB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0F26E-6D16-4324-8704-3B8529341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7893B-7A64-4676-849D-08013A8FB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CD7D3-E28D-454D-9D01-28C32B77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47ADA-87AA-4B23-8B10-7CBCF718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9AF6F-1E90-4961-9DE0-A99BC73F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7122C-4001-44B3-9D17-461722637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4DFC4-4124-42DA-AA52-91A51E147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0FBF1-F911-4153-B086-C7AC2CFE9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DA374-174C-4A56-8391-B441DC4B4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E187-1FBF-456A-9569-4C93DE71E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89E65-6E98-4218-99B7-108BE3B25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F9ABD-C552-43D7-9275-0AD52D6AF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2DD30-5D1A-4E13-ABED-86A9B78DF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FC9B9-D37D-4936-96E0-B5C79C456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C1A803-9DF9-48CA-8192-032E6D976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18B43-7CB3-4858-BE9B-490B49B3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31B9A-546C-47C9-AAAF-3CDDE185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545FC-7A10-42DB-924F-042C512B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90632-23FD-4D18-B441-39D732D4E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FC669-B61A-4B97-88AE-D3E894B07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A94A-C7B9-474D-8767-B33CF1EA1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8BC7F-36C6-43FD-86E4-5229EE404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AEEE34-0CC4-4FED-B12D-284731D17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65B13-418C-4DBE-858D-C5842A96A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9E6AA-3C2C-491D-9EEF-CAA97C7D8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DFAF7-DE1F-4F7E-9E40-DFD0074E2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4BB10-ED42-4103-8EAF-9B6DC76E5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C3764-028E-4E13-BFDF-031BB913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17097-C98A-4325-9E3C-72971CEF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3531C-57E9-432F-A358-6DCA73B7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A6654-C036-4159-9F44-1A750DB8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5A3F-5D90-4C44-A6EF-7C038BC5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D524A0-B870-453E-89BF-6BF270DC4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379D8-0067-415E-953E-576E0AA0E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1D1A6-5646-4D50-B3AD-785531286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427261-FDAD-41C2-AA36-869B0A87B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3A0E7E-3D7B-43B3-9518-D038043FD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FF6DAC-5FFF-49A7-963A-D2678ABF6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6C5BE0-2AE4-4967-BF3F-CE304319B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9B439E-968D-48D9-A31E-324B26C20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9A5330-DFD7-425E-AA0A-7A05E5A3F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8D28CF-9215-44A0-A07C-A3398F3A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F4C9-116C-4366-9E3E-950A67DD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C6036-67F4-4EDF-B8ED-215FC72D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68103C-A60C-48AD-A3A9-4F9608D6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AFACC7-04DA-45B8-A824-EA1D26624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361BF2-08EC-459B-8E4B-64E592D59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053B93-1511-433F-B0DE-BE741E681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06D9-802C-4431-8B46-81D4449F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0 Triángulo rectángulo"/>
          <p:cNvSpPr/>
          <p:nvPr/>
        </p:nvSpPr>
        <p:spPr>
          <a:xfrm>
            <a:off x="6480" y="15840"/>
            <a:ext cx="9512280" cy="759780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7 Conector recto"/>
          <p:cNvSpPr/>
          <p:nvPr/>
        </p:nvSpPr>
        <p:spPr>
          <a:xfrm>
            <a:off x="0" y="6480"/>
            <a:ext cx="9518760" cy="760716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8 Conector recto"/>
          <p:cNvSpPr/>
          <p:nvPr/>
        </p:nvSpPr>
        <p:spPr>
          <a:xfrm flipH="1">
            <a:off x="6738480" y="5496840"/>
            <a:ext cx="2784600" cy="211140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991040" y="7202520"/>
            <a:ext cx="222264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75920" y="7202520"/>
            <a:ext cx="443700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05600" y="7202520"/>
            <a:ext cx="52416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CA43E-5318-4872-89F5-A34E1DF0A080}" type="slidenum">
              <a:rPr b="0" lang="es-E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0 Triángulo rectángulo"/>
          <p:cNvSpPr/>
          <p:nvPr/>
        </p:nvSpPr>
        <p:spPr>
          <a:xfrm>
            <a:off x="6480" y="15840"/>
            <a:ext cx="9512280" cy="759780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7 Conector recto"/>
          <p:cNvSpPr/>
          <p:nvPr/>
        </p:nvSpPr>
        <p:spPr>
          <a:xfrm>
            <a:off x="0" y="6480"/>
            <a:ext cx="9518760" cy="760716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8 Conector recto"/>
          <p:cNvSpPr/>
          <p:nvPr/>
        </p:nvSpPr>
        <p:spPr>
          <a:xfrm flipH="1">
            <a:off x="6738480" y="5496840"/>
            <a:ext cx="2784600" cy="211140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9 Triángulo isósceles"/>
          <p:cNvSpPr/>
          <p:nvPr/>
        </p:nvSpPr>
        <p:spPr>
          <a:xfrm rot="16200000">
            <a:off x="7802280" y="5882760"/>
            <a:ext cx="2103480" cy="1347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428480" y="6679800"/>
            <a:ext cx="6032520" cy="4050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428480" y="6276600"/>
            <a:ext cx="6032520" cy="4064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740440" y="6392880"/>
            <a:ext cx="523800" cy="4046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92FC8-85FE-43CC-A049-0810E529B94E}" type="slidenum">
              <a:rPr b="0" lang="es-ES" sz="14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0 Triángulo rectángulo"/>
          <p:cNvSpPr/>
          <p:nvPr/>
        </p:nvSpPr>
        <p:spPr>
          <a:xfrm>
            <a:off x="6480" y="15840"/>
            <a:ext cx="9512280" cy="759780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7 Conector recto"/>
          <p:cNvSpPr/>
          <p:nvPr/>
        </p:nvSpPr>
        <p:spPr>
          <a:xfrm>
            <a:off x="0" y="6480"/>
            <a:ext cx="9518760" cy="760716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8 Conector recto"/>
          <p:cNvSpPr/>
          <p:nvPr/>
        </p:nvSpPr>
        <p:spPr>
          <a:xfrm flipH="1">
            <a:off x="6738480" y="5496840"/>
            <a:ext cx="2784600" cy="211140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991040" y="7201080"/>
            <a:ext cx="222264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75920" y="7202520"/>
            <a:ext cx="4437000" cy="333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905600" y="7202520"/>
            <a:ext cx="52416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3A80C-F9F6-4C49-819E-36A81604E141}" type="slidenum">
              <a:rPr b="0" lang="es-E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9 Triángulo rectángulo"/>
          <p:cNvSpPr/>
          <p:nvPr/>
        </p:nvSpPr>
        <p:spPr>
          <a:xfrm flipV="1">
            <a:off x="6480" y="5400"/>
            <a:ext cx="9512280" cy="759780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11 Triángulo isósceles"/>
          <p:cNvSpPr/>
          <p:nvPr/>
        </p:nvSpPr>
        <p:spPr>
          <a:xfrm flipV="1" rot="5400000">
            <a:off x="7802280" y="387720"/>
            <a:ext cx="2103480" cy="1347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12 Conector recto"/>
          <p:cNvSpPr/>
          <p:nvPr/>
        </p:nvSpPr>
        <p:spPr>
          <a:xfrm flipH="1" flipV="1">
            <a:off x="6738480" y="10800"/>
            <a:ext cx="2784600" cy="211140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14 Conector recto"/>
          <p:cNvSpPr/>
          <p:nvPr/>
        </p:nvSpPr>
        <p:spPr>
          <a:xfrm flipV="1">
            <a:off x="0" y="6120"/>
            <a:ext cx="9518760" cy="760716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7246800" y="7196040"/>
            <a:ext cx="2222640" cy="3398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728800" y="7202520"/>
            <a:ext cx="4438800" cy="333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802360" y="900000"/>
            <a:ext cx="523800" cy="333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B1A7D-FC8F-4F1E-8662-FA84D3372139}" type="slidenum">
              <a:rPr b="0" lang="es-E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990680" y="7202520"/>
            <a:ext cx="221940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76280" y="7202520"/>
            <a:ext cx="443880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905600" y="7203600"/>
            <a:ext cx="52416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6643D-FB65-4730-B012-750A7C3B4C1E}" type="slidenum">
              <a:rPr b="0" lang="es-E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540480" y="7284600"/>
            <a:ext cx="222264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82240" y="7284600"/>
            <a:ext cx="535788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760960" y="7284600"/>
            <a:ext cx="52380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42821-8B87-436E-B474-933184D25C47}" type="slidenum">
              <a:rPr b="0" lang="es-E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362280" y="7284600"/>
            <a:ext cx="218916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219320" y="7286760"/>
            <a:ext cx="515448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59360" y="7284600"/>
            <a:ext cx="38124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F2DE6-34BB-407D-AD8F-2ACCE414EE83}" type="slidenum">
              <a:rPr b="0" lang="es-E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76280" y="1947960"/>
            <a:ext cx="8572320" cy="48592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Century Gothic"/>
              </a:rPr>
              <a:t>Dirección Nacional de Aeronáutica Civil – DINAC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Century Gothic"/>
              </a:rPr>
              <a:t>INFORME DE COMITÉ FAL AEROPUERTO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Century Gothic"/>
              </a:rPr>
              <a:t>LIC. VICTOR VELAZQUEZ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Century Gothic"/>
              </a:rPr>
              <a:t>26-07-2016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2" name="3 Imagen" descr="bandera.png"/>
          <p:cNvPicPr/>
          <p:nvPr/>
        </p:nvPicPr>
        <p:blipFill>
          <a:blip r:embed="rId1"/>
          <a:stretch/>
        </p:blipFill>
        <p:spPr>
          <a:xfrm>
            <a:off x="3467160" y="380880"/>
            <a:ext cx="2057400" cy="1096920"/>
          </a:xfrm>
          <a:prstGeom prst="rect">
            <a:avLst/>
          </a:prstGeom>
          <a:ln w="0">
            <a:noFill/>
          </a:ln>
        </p:spPr>
      </p:pic>
      <p:pic>
        <p:nvPicPr>
          <p:cNvPr id="303" name="5 Imagen" descr="logo_resto.jpg"/>
          <p:cNvPicPr/>
          <p:nvPr/>
        </p:nvPicPr>
        <p:blipFill>
          <a:blip r:embed="rId2"/>
          <a:stretch/>
        </p:blipFill>
        <p:spPr>
          <a:xfrm>
            <a:off x="658800" y="396720"/>
            <a:ext cx="2040120" cy="10810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6" descr="http://www.dinac.gov.py/v2/media/k2/items/cache/71601b6fd7fc74a9f4eea8e6c1b43d35_XL.jpg"/>
          <p:cNvPicPr/>
          <p:nvPr/>
        </p:nvPicPr>
        <p:blipFill>
          <a:blip r:embed="rId3"/>
          <a:stretch/>
        </p:blipFill>
        <p:spPr>
          <a:xfrm>
            <a:off x="5842080" y="396720"/>
            <a:ext cx="304776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1 Título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815320" cy="1749600"/>
          </a:xfrm>
          <a:prstGeom prst="rect">
            <a:avLst/>
          </a:prstGeom>
          <a:ln w="0">
            <a:noFill/>
          </a:ln>
        </p:spPr>
      </p:pic>
      <p:sp>
        <p:nvSpPr>
          <p:cNvPr id="420" name="1 Título"/>
          <p:cNvSpPr/>
          <p:nvPr/>
        </p:nvSpPr>
        <p:spPr>
          <a:xfrm>
            <a:off x="5119560" y="5238720"/>
            <a:ext cx="4017960" cy="19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s-PY" sz="1100" spc="-1" strike="noStrike">
                <a:solidFill>
                  <a:srgbClr val="000000"/>
                </a:solidFill>
                <a:latin typeface="Arial"/>
                <a:ea typeface="Arial"/>
              </a:rPr>
              <a:t>SE CONTRATO LOS SERVICIOS DE CONSULTORIA PARA LA CERTIFICACION ISO 9001/2008, DE LOS SERVICIOS AEROPORTUARIOS DEL AISP, EN TOTAL 15 PROCESOS RELACIONADOS A LA ATENCION DE PASAJEROS Y A LA SEGURIDAD OPERACIONAL.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s-PY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600"/>
            </a:br>
            <a:endParaRPr b="0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1" name="Picture 5" descr="C:\Users\Usuario\Documents\ESCAN ISO.jpg"/>
          <p:cNvPicPr/>
          <p:nvPr/>
        </p:nvPicPr>
        <p:blipFill>
          <a:blip r:embed="rId2"/>
          <a:stretch/>
        </p:blipFill>
        <p:spPr>
          <a:xfrm rot="21184800">
            <a:off x="604800" y="1793880"/>
            <a:ext cx="4621320" cy="24145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5" descr="C:\Users\Usuario\AppData\Local\Microsoft\Windows\Temporary Internet Files\Low\Content.IE5\18YWFR88\IMG-20140106-WA0002[1].jpg"/>
          <p:cNvPicPr/>
          <p:nvPr/>
        </p:nvPicPr>
        <p:blipFill>
          <a:blip r:embed="rId3"/>
          <a:stretch/>
        </p:blipFill>
        <p:spPr>
          <a:xfrm>
            <a:off x="619200" y="4595760"/>
            <a:ext cx="3600360" cy="2700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6" descr="C:\Users\Usuario\AppData\Local\Microsoft\Windows\Temporary Internet Files\Low\Content.IE5\QUDQGEZE\IMG-20140106-WA0001[1].jpg"/>
          <p:cNvPicPr/>
          <p:nvPr/>
        </p:nvPicPr>
        <p:blipFill>
          <a:blip r:embed="rId4"/>
          <a:stretch/>
        </p:blipFill>
        <p:spPr>
          <a:xfrm>
            <a:off x="5119560" y="1666800"/>
            <a:ext cx="4172040" cy="31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3 Imagen" descr=""/>
          <p:cNvPicPr/>
          <p:nvPr/>
        </p:nvPicPr>
        <p:blipFill>
          <a:blip r:embed="rId1"/>
          <a:stretch/>
        </p:blipFill>
        <p:spPr>
          <a:xfrm>
            <a:off x="12600" y="0"/>
            <a:ext cx="9499680" cy="762012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412920" y="2770200"/>
            <a:ext cx="5024160" cy="36799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3000" spc="-1" strike="noStrike">
                <a:solidFill>
                  <a:srgbClr val="000000"/>
                </a:solidFill>
                <a:latin typeface="Tahoma"/>
              </a:rPr>
              <a:t>PRESENTACIÓN DEL RESULTADO DE ENCUESTAS REALIZADAS EN EL AISP 2016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77720" indent="-4078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3000" spc="-1" strike="noStrike">
                <a:solidFill>
                  <a:srgbClr val="000000"/>
                </a:solidFill>
                <a:latin typeface="Tahoma"/>
              </a:rPr>
              <a:t>LICITACIÓN POR CONCURSO DE OFERTAS N° 29/2015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77720" indent="-4078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1 Imagen" descr=""/>
          <p:cNvPicPr/>
          <p:nvPr/>
        </p:nvPicPr>
        <p:blipFill>
          <a:blip r:embed="rId1"/>
          <a:stretch/>
        </p:blipFill>
        <p:spPr>
          <a:xfrm>
            <a:off x="12600" y="0"/>
            <a:ext cx="9499680" cy="7620120"/>
          </a:xfrm>
          <a:prstGeom prst="rect">
            <a:avLst/>
          </a:prstGeom>
          <a:ln w="0">
            <a:noFill/>
          </a:ln>
        </p:spPr>
      </p:pic>
      <p:sp>
        <p:nvSpPr>
          <p:cNvPr id="427" name="Rectangle 3"/>
          <p:cNvSpPr/>
          <p:nvPr/>
        </p:nvSpPr>
        <p:spPr>
          <a:xfrm>
            <a:off x="336600" y="770040"/>
            <a:ext cx="90010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noAutofit/>
          </a:bodyPr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Formulario de Encuesta utilizado FL-SGC-10 V00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Periodo: 11 de Enero y el 28 de Enero del 2016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Fueron encuestadas 510 personas y respondienron 315 personas.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Encuestas realizadas de manera personalizada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Las encuestas se realizaron en diferentes Horarios (Madrugada,Mañana, Tarde, Noche)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2"/>
          <a:stretch/>
        </p:blipFill>
        <p:spPr>
          <a:xfrm>
            <a:off x="212760" y="6364440"/>
            <a:ext cx="609120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1 Imagen" descr=""/>
          <p:cNvPicPr/>
          <p:nvPr/>
        </p:nvPicPr>
        <p:blipFill>
          <a:blip r:embed="rId1"/>
          <a:stretch/>
        </p:blipFill>
        <p:spPr>
          <a:xfrm>
            <a:off x="12600" y="0"/>
            <a:ext cx="9499680" cy="762012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3"/>
          <p:cNvSpPr/>
          <p:nvPr/>
        </p:nvSpPr>
        <p:spPr>
          <a:xfrm>
            <a:off x="336600" y="770040"/>
            <a:ext cx="90010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noAutofit/>
          </a:bodyPr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Muestras tomadas en el área  de estacionamiento,  embarque y desembarque, área restringida y pública, pasajeros y acompañantes.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1" name="Rectangle 2" descr=""/>
          <p:cNvPicPr/>
          <p:nvPr/>
        </p:nvPicPr>
        <p:blipFill>
          <a:blip r:embed="rId2"/>
          <a:stretch/>
        </p:blipFill>
        <p:spPr>
          <a:xfrm>
            <a:off x="212760" y="6364440"/>
            <a:ext cx="609120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2"/>
          <p:cNvSpPr/>
          <p:nvPr/>
        </p:nvSpPr>
        <p:spPr>
          <a:xfrm>
            <a:off x="336600" y="6370560"/>
            <a:ext cx="59641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7f7f7f"/>
                </a:solidFill>
                <a:latin typeface="Tahoma"/>
              </a:rPr>
              <a:t>EDIFICIO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3" name="2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336600" y="6370560"/>
            <a:ext cx="59641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7f7f7f"/>
                </a:solidFill>
                <a:latin typeface="Tahoma"/>
              </a:rPr>
              <a:t>EDIFICIO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5" name="3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2"/>
          <p:cNvSpPr/>
          <p:nvPr/>
        </p:nvSpPr>
        <p:spPr>
          <a:xfrm>
            <a:off x="336600" y="6370560"/>
            <a:ext cx="59641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7f7f7f"/>
                </a:solidFill>
                <a:latin typeface="Tahoma"/>
              </a:rPr>
              <a:t>EDIFICIO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7" name="6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1 Título" descr=""/>
          <p:cNvPicPr/>
          <p:nvPr/>
        </p:nvPicPr>
        <p:blipFill>
          <a:blip r:embed="rId1"/>
          <a:stretch/>
        </p:blipFill>
        <p:spPr>
          <a:xfrm>
            <a:off x="139680" y="6132600"/>
            <a:ext cx="6346800" cy="1116000"/>
          </a:xfrm>
          <a:prstGeom prst="rect">
            <a:avLst/>
          </a:prstGeom>
          <a:ln w="0">
            <a:noFill/>
          </a:ln>
        </p:spPr>
      </p:pic>
      <p:pic>
        <p:nvPicPr>
          <p:cNvPr id="439" name="1 Gráfico" descr=""/>
          <p:cNvPicPr/>
          <p:nvPr/>
        </p:nvPicPr>
        <p:blipFill>
          <a:blip r:embed="rId2"/>
          <a:stretch/>
        </p:blipFill>
        <p:spPr>
          <a:xfrm>
            <a:off x="0" y="0"/>
            <a:ext cx="952200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1 Título"/>
          <p:cNvSpPr/>
          <p:nvPr/>
        </p:nvSpPr>
        <p:spPr>
          <a:xfrm>
            <a:off x="262080" y="6130800"/>
            <a:ext cx="622620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600" spc="-1" strike="noStrike">
                <a:solidFill>
                  <a:srgbClr val="7f7f7f"/>
                </a:solidFill>
                <a:latin typeface="Tahoma"/>
              </a:rPr>
              <a:t>CHECK IN COMPAÑÍA AÉREA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1" name="2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13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- MIGRACIONE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3" name="1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13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1 Título" descr=""/>
          <p:cNvPicPr/>
          <p:nvPr/>
        </p:nvPicPr>
        <p:blipFill>
          <a:blip r:embed="rId1"/>
          <a:stretch/>
        </p:blipFill>
        <p:spPr>
          <a:xfrm>
            <a:off x="444600" y="1359000"/>
            <a:ext cx="8570880" cy="15555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369720" y="2945880"/>
            <a:ext cx="8823600" cy="3816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 fontScale="99000"/>
          </a:bodyPr>
          <a:p>
            <a:pPr lvl="1" marL="917640" indent="-452520">
              <a:spcBef>
                <a:spcPts val="499"/>
              </a:spcBef>
              <a:buClr>
                <a:srgbClr val="ffffff"/>
              </a:buClr>
              <a:buSzPct val="95000"/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entury Gothic"/>
              </a:rPr>
              <a:t>Reuniones en Aeropuertos Internacionales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Mejora la conectividad aérea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Encuesta de satisfacción:  Sistema de Gestión de calidad ISO 9001:2008 – AISP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Proyecto PIRS – MIDAS – Dirección General de Migraciones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Curso de Capacitación sobre evaluación de documentos de viajes para Compañías Aéreas del AISP,  a ser dictado por Dirección General de Migraciones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Auditoria OACI -  5-13 de setiembre/16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Asistencia de victimas de accidentes de Aviación y a sus familiares  - Anexo 12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Programa FAL del Aeropuerto AISP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917640" indent="-452520">
              <a:spcBef>
                <a:spcPts val="451"/>
              </a:spcBef>
              <a:buClr>
                <a:srgbClr val="ffffff"/>
              </a:buClr>
              <a:buSzPct val="95000"/>
              <a:buFont typeface="Verdana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7" name="3 Imagen" descr="bandera.png"/>
          <p:cNvPicPr/>
          <p:nvPr/>
        </p:nvPicPr>
        <p:blipFill>
          <a:blip r:embed="rId2"/>
          <a:stretch/>
        </p:blipFill>
        <p:spPr>
          <a:xfrm>
            <a:off x="3467160" y="380880"/>
            <a:ext cx="2057400" cy="1096920"/>
          </a:xfrm>
          <a:prstGeom prst="rect">
            <a:avLst/>
          </a:prstGeom>
          <a:ln w="0">
            <a:noFill/>
          </a:ln>
        </p:spPr>
      </p:pic>
      <p:pic>
        <p:nvPicPr>
          <p:cNvPr id="308" name="5 Imagen" descr="logo_resto.jpg"/>
          <p:cNvPicPr/>
          <p:nvPr/>
        </p:nvPicPr>
        <p:blipFill>
          <a:blip r:embed="rId3"/>
          <a:stretch/>
        </p:blipFill>
        <p:spPr>
          <a:xfrm>
            <a:off x="658800" y="396720"/>
            <a:ext cx="2040120" cy="10810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" descr="http://www.dinac.gov.py/v2/media/k2/items/cache/71601b6fd7fc74a9f4eea8e6c1b43d35_XL.jpg"/>
          <p:cNvPicPr/>
          <p:nvPr/>
        </p:nvPicPr>
        <p:blipFill>
          <a:blip r:embed="rId4"/>
          <a:stretch/>
        </p:blipFill>
        <p:spPr>
          <a:xfrm>
            <a:off x="5842080" y="396720"/>
            <a:ext cx="304776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- MIGRACIONE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5" name="2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13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- MIGRACIONE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7" name="3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13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ADUANA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9" name="2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3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ADUANA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51" name="1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3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35760"/>
          </a:xfrm>
          <a:prstGeom prst="rect">
            <a:avLst/>
          </a:prstGeom>
          <a:ln w="0">
            <a:noFill/>
          </a:ln>
        </p:spPr>
      </p:pic>
      <p:sp>
        <p:nvSpPr>
          <p:cNvPr id="453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ADUANA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1 Título" descr=""/>
          <p:cNvPicPr/>
          <p:nvPr/>
        </p:nvPicPr>
        <p:blipFill>
          <a:blip r:embed="rId1"/>
          <a:stretch/>
        </p:blipFill>
        <p:spPr>
          <a:xfrm>
            <a:off x="-189000" y="6046920"/>
            <a:ext cx="6450120" cy="1274760"/>
          </a:xfrm>
          <a:prstGeom prst="rect">
            <a:avLst/>
          </a:prstGeom>
          <a:ln w="0">
            <a:noFill/>
          </a:ln>
        </p:spPr>
      </p:pic>
      <p:pic>
        <p:nvPicPr>
          <p:cNvPr id="455" name="1 Gráfico" descr=""/>
          <p:cNvPicPr/>
          <p:nvPr/>
        </p:nvPicPr>
        <p:blipFill>
          <a:blip r:embed="rId2"/>
          <a:stretch/>
        </p:blipFill>
        <p:spPr>
          <a:xfrm>
            <a:off x="0" y="0"/>
            <a:ext cx="9522000" cy="61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1 Título" descr=""/>
          <p:cNvPicPr/>
          <p:nvPr/>
        </p:nvPicPr>
        <p:blipFill>
          <a:blip r:embed="rId1"/>
          <a:stretch/>
        </p:blipFill>
        <p:spPr>
          <a:xfrm>
            <a:off x="512640" y="5608800"/>
            <a:ext cx="8575920" cy="15541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2" descr="F:\foto  aerea Drone\P1050572.JPG"/>
          <p:cNvPicPr/>
          <p:nvPr/>
        </p:nvPicPr>
        <p:blipFill>
          <a:blip r:embed="rId2"/>
          <a:stretch/>
        </p:blipFill>
        <p:spPr>
          <a:xfrm>
            <a:off x="0" y="209520"/>
            <a:ext cx="952488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H:\AAPLANOS\KAPPA\DINAC\FONDO2.jpg"/>
          <p:cNvPicPr/>
          <p:nvPr/>
        </p:nvPicPr>
        <p:blipFill>
          <a:blip r:embed="rId1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11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MEJORA LA CONECTIVIDAD A EUROP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18 CuadroTexto"/>
          <p:cNvSpPr/>
          <p:nvPr/>
        </p:nvSpPr>
        <p:spPr>
          <a:xfrm rot="16200000">
            <a:off x="-1183680" y="2810880"/>
            <a:ext cx="3352680" cy="54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23" name="Picture 3" descr="D:\celular 2015\07-vie-01-cp--700x559.jpeg"/>
          <p:cNvPicPr/>
          <p:nvPr/>
        </p:nvPicPr>
        <p:blipFill>
          <a:blip r:embed="rId2"/>
          <a:stretch/>
        </p:blipFill>
        <p:spPr>
          <a:xfrm>
            <a:off x="1008000" y="714240"/>
            <a:ext cx="8502840" cy="6788160"/>
          </a:xfrm>
          <a:prstGeom prst="rect">
            <a:avLst/>
          </a:prstGeom>
          <a:ln w="0">
            <a:noFill/>
          </a:ln>
        </p:spPr>
      </p:pic>
      <p:sp>
        <p:nvSpPr>
          <p:cNvPr id="324" name="1 Título"/>
          <p:cNvSpPr/>
          <p:nvPr/>
        </p:nvSpPr>
        <p:spPr>
          <a:xfrm>
            <a:off x="1041480" y="6396120"/>
            <a:ext cx="8501040" cy="11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Desde diciembre, después de 21 años, Paraguay tiene vuelos directos a Europa, con 2 frecuencias semanales.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17" descr="C:\Users\vvelazquez\AppData\Local\Microsoft\Windows\Temporary Internet Files\Content.IE5\CDT6OTXG\el-primer-vuelo-de-air-europa-entre-espana-y-paraguay-fue-recibido-esta-manana-_860_573_1314386.jpeg"/>
          <p:cNvPicPr/>
          <p:nvPr/>
        </p:nvPicPr>
        <p:blipFill>
          <a:blip r:embed="rId1"/>
          <a:stretch/>
        </p:blipFill>
        <p:spPr>
          <a:xfrm>
            <a:off x="990720" y="985680"/>
            <a:ext cx="8369280" cy="594864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" descr="H:\AAPLANOS\KAPPA\DINAC\FONDO2.jpg"/>
          <p:cNvPicPr/>
          <p:nvPr/>
        </p:nvPicPr>
        <p:blipFill>
          <a:blip r:embed="rId2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27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MEJORA LA CONECTIVIDAD A EUROPA – AIR EUROP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18 CuadroTexto"/>
          <p:cNvSpPr/>
          <p:nvPr/>
        </p:nvSpPr>
        <p:spPr>
          <a:xfrm rot="16200000">
            <a:off x="-1183680" y="2810880"/>
            <a:ext cx="3352680" cy="54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9" name="Picture 17" descr="C:\Users\VVELAZ~1\AppData\Local\Temp\Rar$DI00.461\Resolucion 1362.jpg"/>
          <p:cNvPicPr/>
          <p:nvPr/>
        </p:nvPicPr>
        <p:blipFill>
          <a:blip r:embed="rId3"/>
          <a:stretch/>
        </p:blipFill>
        <p:spPr>
          <a:xfrm>
            <a:off x="990720" y="5816520"/>
            <a:ext cx="457992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2" descr="H:\AAPLANOS\KAPPA\DINAC\FONDO2.jpg"/>
          <p:cNvPicPr/>
          <p:nvPr/>
        </p:nvPicPr>
        <p:blipFill>
          <a:blip r:embed="rId1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41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CONECTIVIDAD A CIUDAD DEL ES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18 CuadroTexto"/>
          <p:cNvSpPr/>
          <p:nvPr/>
        </p:nvSpPr>
        <p:spPr>
          <a:xfrm rot="16200000">
            <a:off x="-1183680" y="2810880"/>
            <a:ext cx="3352680" cy="54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3" name="Picture 3" descr="D:\celular 2015\IMG-20150824-WA0088.jpg"/>
          <p:cNvPicPr/>
          <p:nvPr/>
        </p:nvPicPr>
        <p:blipFill>
          <a:blip r:embed="rId2"/>
          <a:stretch/>
        </p:blipFill>
        <p:spPr>
          <a:xfrm>
            <a:off x="1041480" y="1987560"/>
            <a:ext cx="8205840" cy="3801960"/>
          </a:xfrm>
          <a:prstGeom prst="rect">
            <a:avLst/>
          </a:prstGeom>
          <a:ln w="0">
            <a:noFill/>
          </a:ln>
        </p:spPr>
      </p:pic>
      <p:sp>
        <p:nvSpPr>
          <p:cNvPr id="354" name="1 Título"/>
          <p:cNvSpPr/>
          <p:nvPr/>
        </p:nvSpPr>
        <p:spPr>
          <a:xfrm>
            <a:off x="1041480" y="5792760"/>
            <a:ext cx="8205840" cy="84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s-ES" sz="1100" spc="-1" strike="noStrike">
                <a:solidFill>
                  <a:srgbClr val="000000"/>
                </a:solidFill>
                <a:latin typeface="Verdana"/>
              </a:rPr>
              <a:t>Desde setiembre, Amaszonas Paraguay, realiza 2 vuelos diarios a Ciudad del Este, mejorando la conectividad aérea en nuestro país. Los pasajeros se benefician en el ahorro del tiempo de viaje, seguridad y costos competitivos.  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17" descr="C:\Users\vvelazquez\AppData\Local\Microsoft\Windows\Temporary Internet Files\Content.IE5\CDT6OTXG\Scan_Pic0001.jpg"/>
          <p:cNvPicPr/>
          <p:nvPr/>
        </p:nvPicPr>
        <p:blipFill>
          <a:blip r:embed="rId1"/>
          <a:stretch/>
        </p:blipFill>
        <p:spPr>
          <a:xfrm rot="21063600">
            <a:off x="1146240" y="4511520"/>
            <a:ext cx="4084560" cy="18529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" descr="H:\AAPLANOS\KAPPA\DINAC\FONDO2.jpg"/>
          <p:cNvPicPr/>
          <p:nvPr/>
        </p:nvPicPr>
        <p:blipFill>
          <a:blip r:embed="rId2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57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SOL del Paraguay – Inicio de vuelo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18 CuadroTexto"/>
          <p:cNvSpPr/>
          <p:nvPr/>
        </p:nvSpPr>
        <p:spPr>
          <a:xfrm rot="16200000">
            <a:off x="-1183680" y="2810880"/>
            <a:ext cx="3352680" cy="54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9" name="Picture 2" descr="https://s3-sa-east-1.amazonaws.com/assets.abc.com.py/2016/01/07/una-de-las-aeronaves-de-sol-del-paraguay-_867_573_1321926.jpg"/>
          <p:cNvPicPr/>
          <p:nvPr/>
        </p:nvPicPr>
        <p:blipFill>
          <a:blip r:embed="rId3"/>
          <a:stretch/>
        </p:blipFill>
        <p:spPr>
          <a:xfrm>
            <a:off x="2270160" y="920880"/>
            <a:ext cx="4456080" cy="3139920"/>
          </a:xfrm>
          <a:prstGeom prst="rect">
            <a:avLst/>
          </a:prstGeom>
          <a:ln w="0">
            <a:noFill/>
          </a:ln>
        </p:spPr>
      </p:pic>
      <p:sp>
        <p:nvSpPr>
          <p:cNvPr id="370" name="1 CuadroTexto"/>
          <p:cNvSpPr/>
          <p:nvPr/>
        </p:nvSpPr>
        <p:spPr>
          <a:xfrm>
            <a:off x="1041480" y="6689880"/>
            <a:ext cx="8096040" cy="7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Verdana"/>
              </a:rPr>
              <a:t>Partiendo desde el Aeropuerto Silvio Pettirossi,  a partir del 13 de enero con una capacidad para 12 pasajeros, más dos pilotos con destino a la ciudad de Encarnación y desde febrero a Pedro Juan Caballero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1" name="Picture 4" descr="C:\Users\vvelazquez\AppData\Local\Microsoft\Windows\Temporary Internet Files\Content.IE5\6ROQAQMJ\RESOLUCION Nº 15-2016.jpg"/>
          <p:cNvPicPr/>
          <p:nvPr/>
        </p:nvPicPr>
        <p:blipFill>
          <a:blip r:embed="rId4"/>
          <a:stretch/>
        </p:blipFill>
        <p:spPr>
          <a:xfrm rot="21043800">
            <a:off x="5498640" y="4211640"/>
            <a:ext cx="390384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H:\AAPLANOS\KAPPA\DINAC\FONDO2.jpg"/>
          <p:cNvPicPr/>
          <p:nvPr/>
        </p:nvPicPr>
        <p:blipFill>
          <a:blip r:embed="rId1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73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SOL del Paraguay – vuelo inaugura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18 CuadroTexto"/>
          <p:cNvSpPr/>
          <p:nvPr/>
        </p:nvSpPr>
        <p:spPr>
          <a:xfrm rot="16200000">
            <a:off x="-1183680" y="2810880"/>
            <a:ext cx="3352680" cy="54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1 CuadroTexto"/>
          <p:cNvSpPr/>
          <p:nvPr/>
        </p:nvSpPr>
        <p:spPr>
          <a:xfrm>
            <a:off x="1190520" y="7037280"/>
            <a:ext cx="80964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Verdana"/>
              </a:rPr>
              <a:t>Vuelo inaugural Asunción – Encarnación – Asunción – realizado el 12 de enero de 2016,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6" name="Picture 2" descr="C:\Users\vvelazquez\AppData\Local\Microsoft\Windows\Temporary Internet Files\Content.IE5\PWUB810O\el-brindis-de-rigor_863_573_1323629.jpeg"/>
          <p:cNvPicPr/>
          <p:nvPr/>
        </p:nvPicPr>
        <p:blipFill>
          <a:blip r:embed="rId2"/>
          <a:stretch/>
        </p:blipFill>
        <p:spPr>
          <a:xfrm>
            <a:off x="1636560" y="952560"/>
            <a:ext cx="4235760" cy="29988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2" descr="Haga clic en Opciones"/>
          <p:cNvPicPr/>
          <p:nvPr/>
        </p:nvPicPr>
        <p:blipFill>
          <a:blip r:embed="rId3"/>
          <a:stretch/>
        </p:blipFill>
        <p:spPr>
          <a:xfrm>
            <a:off x="4762440" y="3968640"/>
            <a:ext cx="4241880" cy="30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H:\AAPLANOS\KAPPA\DINAC\FONDO2.jpg"/>
          <p:cNvPicPr/>
          <p:nvPr/>
        </p:nvPicPr>
        <p:blipFill>
          <a:blip r:embed="rId1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89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PRINCIPALES TEMAS TRATADOS EN COMITÉ FAL AEROPUERT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18 CuadroTexto"/>
          <p:cNvSpPr/>
          <p:nvPr/>
        </p:nvSpPr>
        <p:spPr>
          <a:xfrm rot="16200000">
            <a:off x="-1183320" y="2810520"/>
            <a:ext cx="3352680" cy="55044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19 CuadroTexto"/>
          <p:cNvSpPr/>
          <p:nvPr/>
        </p:nvSpPr>
        <p:spPr>
          <a:xfrm>
            <a:off x="1243080" y="5465880"/>
            <a:ext cx="8281800" cy="23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Año 2016 – AISP 2 reunion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yecto PIRS – MIDAS – Dirección General de Migracion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Realización del Curso de Capacitación sobre evaluación de documentos de viajes para Compañías Aéreas del AISP,  a ser dictado por Dirección General de Migracion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02" name="Picture 20" descr="C:\Users\Usuario\AppData\Local\Microsoft\Windows\Temporary Internet Files\Content.IE5\FT3POMAW\FB_IMG_1464554241249.jpg"/>
          <p:cNvPicPr/>
          <p:nvPr/>
        </p:nvPicPr>
        <p:blipFill>
          <a:blip r:embed="rId2"/>
          <a:stretch/>
        </p:blipFill>
        <p:spPr>
          <a:xfrm>
            <a:off x="4079880" y="2657520"/>
            <a:ext cx="5445000" cy="30639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9" descr="C:\Users\Usuario\AppData\Local\Microsoft\Windows\Temporary Internet Files\Content.IE5\48GUUSPK\FB_IMG_1464554253751.jpg"/>
          <p:cNvPicPr/>
          <p:nvPr/>
        </p:nvPicPr>
        <p:blipFill>
          <a:blip r:embed="rId3"/>
          <a:stretch/>
        </p:blipFill>
        <p:spPr>
          <a:xfrm>
            <a:off x="946080" y="857160"/>
            <a:ext cx="443700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H:\AAPLANOS\KAPPA\DINAC\FONDO2.jpg"/>
          <p:cNvPicPr/>
          <p:nvPr/>
        </p:nvPicPr>
        <p:blipFill>
          <a:blip r:embed="rId1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405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PRINCIPALES TEMAS TRATADOS EN COMITÉ FAL AEROPUERT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18 CuadroTexto"/>
          <p:cNvSpPr/>
          <p:nvPr/>
        </p:nvSpPr>
        <p:spPr>
          <a:xfrm rot="16200000">
            <a:off x="-1183320" y="2810520"/>
            <a:ext cx="3352680" cy="55044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19 CuadroTexto"/>
          <p:cNvSpPr/>
          <p:nvPr/>
        </p:nvSpPr>
        <p:spPr>
          <a:xfrm>
            <a:off x="1017720" y="5249880"/>
            <a:ext cx="8281800" cy="21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Auditoria OACI – Fecha  5-13 de setiembre/16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grama de Asistencia de victimas de accidentes de Aviación y a sus familiar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yecto del Programa FAL del Aeropuerto AISP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8" name="Picture 18" descr="C:\Users\Usuario\AppData\Local\Microsoft\Windows\Temporary Internet Files\Content.IE5\NV7QA57M\FB_IMG_1464554268984.jpg"/>
          <p:cNvPicPr/>
          <p:nvPr/>
        </p:nvPicPr>
        <p:blipFill>
          <a:blip r:embed="rId2"/>
          <a:stretch/>
        </p:blipFill>
        <p:spPr>
          <a:xfrm>
            <a:off x="1090440" y="1001880"/>
            <a:ext cx="794412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8T20:50:20Z</dcterms:created>
  <dc:creator>Margaret Kennedy</dc:creator>
  <dc:description/>
  <dc:language>en-US</dc:language>
  <cp:lastModifiedBy>Victor Velazquez</cp:lastModifiedBy>
  <cp:lastPrinted>2014-08-04T16:47:21Z</cp:lastPrinted>
  <dcterms:modified xsi:type="dcterms:W3CDTF">2016-07-26T11:19:28Z</dcterms:modified>
  <cp:revision>787</cp:revision>
  <dc:subject/>
  <dc:title>SNRE Proyecto SPR</dc:title>
</cp:coreProperties>
</file>